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99732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Click to edit the title text format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Gold and diamonds were discovered on Boer land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 $100</a:t>
            </a:r>
            <a:endParaRPr b="0" lang="en-US" sz="54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3 countries made up the French Indochina? </a:t>
            </a: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 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Vietnam, Laos, and Cambodia</a:t>
            </a:r>
            <a:br>
              <a:rPr sz="54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country in the Far East accepted unequal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reaties and modernizing?</a:t>
            </a: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Siam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</a:t>
            </a: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300</a:t>
            </a:r>
            <a:endParaRPr b="0" lang="en-US" sz="54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did European nations agree on at the Berlin Conference?</a:t>
            </a:r>
            <a:r>
              <a:rPr b="0" lang="en-US" sz="7200" spc="-1" strike="noStrike">
                <a:solidFill>
                  <a:srgbClr val="ffffff"/>
                </a:solidFill>
                <a:latin typeface="Sylfaen"/>
              </a:rPr>
              <a:t>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 $4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hey agreed to set up a government office in parts of Africa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was the Suez Canal constructed and where is it located?</a:t>
            </a: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2/1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It makes it easier to trade with the East and it goes through Egypt and connects the Mediterranean Sea and the Red Sea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4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country wanted the Schlieffen Plan to succeed?</a:t>
            </a:r>
            <a:br>
              <a:rPr sz="54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Chapter 12 Imperialism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Chapter 13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New Global Patterns 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Germany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was the Schlieffen Plan?</a:t>
            </a:r>
            <a:br>
              <a:rPr sz="54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Germany was to go west first and defeat France then go east to fight the Russians.</a:t>
            </a:r>
            <a:br>
              <a:rPr sz="8800"/>
            </a:br>
            <a:r>
              <a:rPr b="0" lang="en-US" sz="97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97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did the Schlieffen Plan fail?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Russia prepared its army too quickly.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ompare fighting on the Eastern Front with fighting on the Western Front</a:t>
            </a:r>
            <a:br>
              <a:rPr sz="54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$4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rench warfare was used more on the Western Front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was the Treaty of Versailles, name 1 person who helped write it and what country was punished?</a:t>
            </a: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4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It was a treaty written after WW I; Wilson-Clemenceau-George-Orlando; Germany was punished (no army, pay reparations)</a:t>
            </a:r>
            <a:br>
              <a:rPr sz="66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actions did Mohandas Gandhi urge Indians to take against British rule?</a:t>
            </a:r>
            <a:br>
              <a:rPr sz="66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$1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Chapter 14 WWI  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He urged the Indians to boycott British goods and to use nonviolence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Japan invaded what country in 1931?</a:t>
            </a:r>
            <a:br>
              <a:rPr sz="60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Manchuria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was the League of Nations’ response to Japan’s aggression in 1931?</a:t>
            </a:r>
            <a:br>
              <a:rPr sz="8800"/>
            </a:b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6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t did nothing to stop Japan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is Russification?</a:t>
            </a:r>
            <a:br>
              <a:rPr sz="6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t was Stalin’s attempt to make cultural life in the Soviet Union more Russian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o was Mussolini and what kind of government did he have in his country?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5/16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He was the fascist military leader in Italy who only allowed one-party to exist. </a:t>
            </a:r>
            <a:br>
              <a:rPr sz="60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n 1939, what country invaded Poland on the west and on the east?</a:t>
            </a:r>
            <a:br>
              <a:rPr sz="97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lfaen"/>
              </a:rPr>
              <a:t>Chapter 15 Nationalism and Revolution Chapter 16 Totalitarianism</a:t>
            </a:r>
            <a:endParaRPr b="0" lang="en-US" sz="8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Germany on the west and Russia on the east</a:t>
            </a:r>
            <a:br>
              <a:rPr sz="6000"/>
            </a:br>
            <a:r>
              <a:rPr b="0" lang="en-US" sz="97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97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60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hat was one of Stalin’s major goals in Eastern Europe after WW II?</a:t>
            </a:r>
            <a:br>
              <a:rPr sz="80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He wanted to spread Communism and set up a buffer zone between the Soviet Union and Germany.</a:t>
            </a:r>
            <a:br>
              <a:rPr sz="8000"/>
            </a:br>
            <a:r>
              <a:rPr b="0" lang="en-US" sz="10100" spc="-1" strike="noStrike">
                <a:solidFill>
                  <a:srgbClr val="ffffff"/>
                </a:solidFill>
                <a:latin typeface="Sylfaen"/>
              </a:rPr>
              <a:t>$</a:t>
            </a:r>
            <a:r>
              <a:rPr b="0" lang="en-US" sz="10000" spc="-1" strike="noStrike">
                <a:solidFill>
                  <a:srgbClr val="ffffff"/>
                </a:solidFill>
                <a:latin typeface="Sylfaen"/>
              </a:rPr>
              <a:t>200</a:t>
            </a:r>
            <a:endParaRPr b="0" lang="en-US" sz="10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Why was the Battle of the Bulge importan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t was Germany’s last offensive maneuver and caused Germany to want peace.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did the Allies do for West Germany after WW II?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he Allies helped West Germany rebuild its economy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72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countries were part of NATO and th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arsaw Pact?</a:t>
            </a:r>
            <a:br>
              <a:rPr sz="5400"/>
            </a:br>
            <a:r>
              <a:rPr b="0" lang="en-US" sz="80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7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NATO- U.S., Canada, and 9 other countri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arsaw Pact- communist nations in Eastern Europe under Soviet control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was the Cold War arms race?</a:t>
            </a: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 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1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lfaen"/>
              </a:rPr>
              <a:t>Chapter 17 World War II</a:t>
            </a:r>
            <a:endParaRPr b="0" lang="en-US" sz="8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t was the build-up of very powerful weapons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1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countries discriminated against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he Kurds?</a:t>
            </a:r>
            <a:br>
              <a:rPr sz="72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 $2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raq and Turkey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o was Indira Gandhi?</a:t>
            </a:r>
            <a:br>
              <a:rPr sz="54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She was the Prime Minister of India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3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Who created the Great Leap Forward and the Cultural Revolution and why did he create agricultural communes.</a:t>
            </a:r>
            <a:br>
              <a:rPr sz="4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Mao Zedong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-To make agriculture more efficient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 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89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o was Mikhail Gorbachev, what was perestroika, and how was the Soviet Union under his leadership?</a:t>
            </a:r>
            <a:br>
              <a:rPr sz="66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 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Ch. 18/19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He came to power in the Soviet Union in 1985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- restructuring of the Gov’t and econom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-it was breaking apart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Chapter 18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The Cold War Chapter 19 New Nations Emerge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was apartheid in South Africa?</a:t>
            </a:r>
            <a:br>
              <a:rPr sz="54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 $1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t made sure that the economic, political, and social was in control by whites.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 What 2 nations had a conflict between the Tutsis and Hutus?</a:t>
            </a:r>
            <a:br>
              <a:rPr sz="66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Burundi and Rwanda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2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at 2 minorities did the Serbians attack?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Bosnians and Croats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Sylfaen"/>
              </a:rPr>
              <a:t>$300</a:t>
            </a:r>
            <a:endParaRPr b="0" lang="en-US" sz="10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In 2004 in Sudan, what happened in Darfur?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88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here was a genocide against non-Arab Muslims.</a:t>
            </a:r>
            <a:br>
              <a:rPr sz="54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4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did the Iran-Iraq war begin in 1980?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 $500</a:t>
            </a:r>
            <a:endParaRPr b="0" lang="en-US" sz="6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Ch. 20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The Iraqis took a border region with Iran.</a:t>
            </a:r>
            <a:br>
              <a:rPr sz="7200"/>
            </a:b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$500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lfaen"/>
              </a:rPr>
              <a:t>Chapter 20 Regional Conflicts</a:t>
            </a:r>
            <a:endParaRPr b="0" lang="en-US" sz="8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ylfaen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39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 12/1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 1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15/1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 17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18/19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. 20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Ch.12/1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did the Boers and the British fight each other in the Boer War?</a:t>
            </a: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Sylfaen"/>
              </a:rPr>
              <a:t>$100</a:t>
            </a:r>
            <a:endParaRPr b="0" lang="en-US" sz="6000" spc="-1" strike="noStrike">
              <a:solidFill>
                <a:srgbClr val="ffffff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awrence Public Schools</cp:lastModifiedBy>
  <dcterms:modified xsi:type="dcterms:W3CDTF">2009-06-14T02:38:31Z</dcterms:modified>
  <cp:revision>71</cp:revision>
  <dc:subject/>
  <dc:title>No Slide Title</dc:title>
</cp:coreProperties>
</file>